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6F7B4-E7F1-4AD5-B978-77519E29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8CF3-17A9-4119-8E87-F7FD604D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983D-D7CF-47E0-9761-CD858166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DFCE0-A146-450F-A82A-9EAC2BC5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93DA-B540-4D7D-83EE-8311FD98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B9DF-A886-406C-A674-CF900A1D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C6E9-9DA7-45EC-8C43-BEE6E811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A18E-FB48-487F-9A96-F49EF318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9DD1-1CBD-4497-BADA-F10E8A23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9909-75C2-452C-BA78-57C2BB92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C4A2-7ACB-4BF2-A9A2-9D105452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C9A4A-10B9-4838-91B7-3FE0F3DE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E508-E116-4762-83A3-91D8A80A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4175-2A19-4217-A88D-2BFED618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5FB2-996B-433C-961A-F55A0531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83B0-ECD7-436F-B3D2-E62A7129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39E9-DCFF-434A-A987-5E8E3F9C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843F2-4B8D-465C-9D75-5A0D1E95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1872-D8BC-4184-A463-911C09CD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8017-299B-4F47-857D-D17AAD03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8D4C8-FE1A-45D9-BCB1-67BE5D2F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4237B-EEE1-4CA7-BE12-3E951DCD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563F2-EF1B-4B7E-A4AD-76099CA2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0119C-A0E6-43F5-9979-06E41CC5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5C76-20D6-49A0-A74C-AC95900606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68AC-2FBB-47A6-9ACC-A9E2256A88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Refuge In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r Island Retr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bout the Refuge In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mily owned since 195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uble rooms, suites, and efficien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cellent restaurants near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king, boating, and biking in the Massassoit National Wildlife Refu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king and Bi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fuge offers over 10 miles of paved trails for walking or bik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e Trail follows the dunes from the Visitor Center 5 miles to Brant Poi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52640" y="1600200"/>
            <a:ext cx="403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ldlife View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403380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iew many species of bird, deer, small animals, and wild ponies from trai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servation decks give excellent view of ducks, geese, and other migratory bir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uge Regu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shing/crabbing permitted in designated are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uge pools closed to all boa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mping not permitt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ats permitted on Brant Point from September 1 to March 1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en fires prohibited except by special perm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sit Us Soon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year rou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s avail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l 555-555-4509 for more inform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2:57:43Z</dcterms:created>
  <dc:creator>Connie Morrison</dc:creator>
  <dc:description/>
  <dc:language>en-US</dc:language>
  <cp:lastModifiedBy>Julie Hotchkiss</cp:lastModifiedBy>
  <dcterms:modified xsi:type="dcterms:W3CDTF">2004-09-25T18:29:16Z</dcterms:modified>
  <cp:revision>5</cp:revision>
  <dc:subject/>
  <dc:title>Slide 1</dc:title>
</cp:coreProperties>
</file>